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3681F-EEE1-404B-BE1C-9FB7C4AAB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8693F-6D5A-463A-8EA4-F8626882E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694D2-660E-4DBC-92C5-3A957FB5C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22B86-25AA-49B9-9A51-A3FBF3351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64CAE-F269-485D-9764-52978301E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494BD-D3A6-4515-B42A-4EE106BA7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1BD00-BC3E-4200-9032-07401DCF7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EDC81-0478-47EF-AE25-4CDDF03FF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21603-3A42-4F37-A0F1-C1E68CC07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64C19-0D7A-49A5-A0AA-869262A20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7CC65-FE83-49C7-ADF0-C9C981C3C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579FE-AA25-44DB-8DEA-F0E873783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846C66-A2DF-4A4F-AAD2-930714E180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nroe Doctrine Analy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584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mes Monro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1600" y="1768320"/>
            <a:ext cx="442584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John Quincy Ad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85800" y="2286000"/>
            <a:ext cx="3200400" cy="38862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5715000" y="2286000"/>
            <a:ext cx="3200400" cy="392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 what events or conditions in the history does the Doctrine ref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90709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 Unicode MS"/>
              </a:rPr>
              <a:t>International historical backdro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ssian land-claims on North America (including California and Hawai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olutions throughout Latin America against Spanish and Portuguese colonial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ly Alliance” of Prussia (modern-day Germany), Austria, and Russia forms to restore monarchies in Europe after the defeat of Napole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fill="hold">
                      <p:stCondLst>
                        <p:cond delay="indefinite"/>
                      </p:stCondLst>
                      <p:childTnLst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-4680"/>
            <a:ext cx="9070920" cy="187488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what ways does the Monroe Doctrine address American concerns for peace and safet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29920" y="232560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6T13:17:58Z</dcterms:created>
  <dc:creator/>
  <dc:description/>
  <dc:language>en-US</dc:language>
  <cp:lastModifiedBy/>
  <cp:revision>1</cp:revision>
  <dc:subject/>
  <dc:title/>
</cp:coreProperties>
</file>